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2325-8D7A-4E8E-95B6-7F98965E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1C6-15E3-4C98-AE7E-6487AE19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C90D-F372-4D2A-A604-8AD13B9C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0E0-7916-49BC-A36E-3EB2CF84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08C1-682C-4F8A-848D-031D75B3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FCCB-88DC-4B8A-A7BB-527244D7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5A9D-32A6-45F0-A50B-2F60D384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9650-15A2-4166-A089-DA861CFC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E4AF-AB48-4006-BE47-02F3BD51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BCD2-8E20-4718-9382-88AF3C3F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6852-6D3B-472E-8801-0C421453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7662-596D-42FF-A4DD-7D74C3E7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A931-B1B4-43E6-9A97-B85C36CDB68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568E-65A6-4605-AD93-3EF763535A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0"/>
          <p:cNvSpPr/>
          <p:nvPr/>
        </p:nvSpPr>
        <p:spPr>
          <a:xfrm>
            <a:off x="5857920" y="3143160"/>
            <a:ext cx="9288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9" descr=""/>
          <p:cNvPicPr/>
          <p:nvPr/>
        </p:nvPicPr>
        <p:blipFill>
          <a:blip r:embed="rId1"/>
          <a:stretch/>
        </p:blipFill>
        <p:spPr>
          <a:xfrm>
            <a:off x="179280" y="4869000"/>
            <a:ext cx="781200" cy="7999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10" descr="http://im2-tub-ru.yandex.net/i?id=288906987-01-72"/>
          <p:cNvPicPr/>
          <p:nvPr/>
        </p:nvPicPr>
        <p:blipFill>
          <a:blip r:embed="rId2"/>
          <a:stretch/>
        </p:blipFill>
        <p:spPr>
          <a:xfrm>
            <a:off x="1835280" y="4941720"/>
            <a:ext cx="628560" cy="5716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2" descr="Z:\08.СлужбаДиректора\commet-2.gif"/>
          <p:cNvPicPr/>
          <p:nvPr/>
        </p:nvPicPr>
        <p:blipFill>
          <a:blip r:embed="rId3"/>
          <a:stretch/>
        </p:blipFill>
        <p:spPr>
          <a:xfrm>
            <a:off x="2484360" y="4724280"/>
            <a:ext cx="1057320" cy="8668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3" descr="Картинка 7 из 34285"/>
          <p:cNvPicPr/>
          <p:nvPr/>
        </p:nvPicPr>
        <p:blipFill>
          <a:blip r:embed="rId4"/>
          <a:stretch/>
        </p:blipFill>
        <p:spPr>
          <a:xfrm>
            <a:off x="1042920" y="4941720"/>
            <a:ext cx="733320" cy="6573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7"/>
          <p:cNvSpPr/>
          <p:nvPr/>
        </p:nvSpPr>
        <p:spPr>
          <a:xfrm>
            <a:off x="0" y="5786280"/>
            <a:ext cx="8215200" cy="142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8"/>
          <p:cNvSpPr/>
          <p:nvPr/>
        </p:nvSpPr>
        <p:spPr>
          <a:xfrm>
            <a:off x="8286840" y="5786280"/>
            <a:ext cx="857160" cy="142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26"/>
          <p:cNvSpPr/>
          <p:nvPr/>
        </p:nvSpPr>
        <p:spPr>
          <a:xfrm flipH="1">
            <a:off x="5500800" y="0"/>
            <a:ext cx="1440" cy="5786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7"/>
          <p:cNvSpPr/>
          <p:nvPr/>
        </p:nvSpPr>
        <p:spPr>
          <a:xfrm>
            <a:off x="395280" y="189000"/>
            <a:ext cx="55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3"/>
          <p:cNvSpPr/>
          <p:nvPr/>
        </p:nvSpPr>
        <p:spPr>
          <a:xfrm>
            <a:off x="0" y="6000840"/>
            <a:ext cx="9144000" cy="8571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ФГУП «ВНИИР» 20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9"/>
          <p:cNvSpPr/>
          <p:nvPr/>
        </p:nvSpPr>
        <p:spPr>
          <a:xfrm>
            <a:off x="6858000" y="4854600"/>
            <a:ext cx="85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9" descr="C:\Users\Маргарита\Pictures\IQNet cert mark_copy_1.bmp"/>
          <p:cNvPicPr/>
          <p:nvPr/>
        </p:nvPicPr>
        <p:blipFill>
          <a:blip r:embed="rId5"/>
          <a:stretch/>
        </p:blipFill>
        <p:spPr>
          <a:xfrm>
            <a:off x="3564000" y="4797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0" descr="C:\Users\Маргарита\Pictures\9001_copy_1.bmp"/>
          <p:cNvPicPr/>
          <p:nvPr/>
        </p:nvPicPr>
        <p:blipFill>
          <a:blip r:embed="rId6"/>
          <a:stretch/>
        </p:blipFill>
        <p:spPr>
          <a:xfrm>
            <a:off x="4572000" y="4869000"/>
            <a:ext cx="720720" cy="71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27"/>
          <p:cNvSpPr/>
          <p:nvPr/>
        </p:nvSpPr>
        <p:spPr>
          <a:xfrm>
            <a:off x="108000" y="479736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9" descr=""/>
          <p:cNvPicPr/>
          <p:nvPr/>
        </p:nvPicPr>
        <p:blipFill>
          <a:blip r:embed="rId7"/>
          <a:stretch/>
        </p:blipFill>
        <p:spPr>
          <a:xfrm>
            <a:off x="5796000" y="115920"/>
            <a:ext cx="3071880" cy="54388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9"/>
          <p:cNvSpPr/>
          <p:nvPr/>
        </p:nvSpPr>
        <p:spPr>
          <a:xfrm>
            <a:off x="-11160" y="-27000"/>
            <a:ext cx="5511960" cy="1125720"/>
          </a:xfrm>
          <a:prstGeom prst="rect">
            <a:avLst/>
          </a:prstGeom>
          <a:solidFill>
            <a:srgbClr val="8eb4e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ГУП  «ВНИИ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Группа 8"/>
          <p:cNvGrpSpPr/>
          <p:nvPr/>
        </p:nvGrpSpPr>
        <p:grpSpPr>
          <a:xfrm>
            <a:off x="108000" y="115920"/>
            <a:ext cx="1096920" cy="982440"/>
            <a:chOff x="108000" y="115920"/>
            <a:chExt cx="1096920" cy="982440"/>
          </a:xfrm>
        </p:grpSpPr>
        <p:pic>
          <p:nvPicPr>
            <p:cNvPr id="58" name="Picture 3" descr=""/>
            <p:cNvPicPr/>
            <p:nvPr/>
          </p:nvPicPr>
          <p:blipFill>
            <a:blip r:embed="rId8"/>
            <a:stretch/>
          </p:blipFill>
          <p:spPr>
            <a:xfrm>
              <a:off x="352080" y="115920"/>
              <a:ext cx="5954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Box 10"/>
            <p:cNvSpPr/>
            <p:nvPr/>
          </p:nvSpPr>
          <p:spPr>
            <a:xfrm>
              <a:off x="108000" y="837000"/>
              <a:ext cx="1096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РОССТАНДАР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Прямоугольник 23"/>
          <p:cNvSpPr/>
          <p:nvPr/>
        </p:nvSpPr>
        <p:spPr>
          <a:xfrm>
            <a:off x="4432320" y="38160"/>
            <a:ext cx="733320" cy="95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Z:\09.СлужбаЗампоЭкониФин\03.ОСБ.ОтдСбыта\04.Менеджер\картинки\LOGO\1.jpg"/>
          <p:cNvPicPr/>
          <p:nvPr/>
        </p:nvPicPr>
        <p:blipFill>
          <a:blip r:embed="rId9"/>
          <a:stretch/>
        </p:blipFill>
        <p:spPr>
          <a:xfrm>
            <a:off x="4600440" y="150840"/>
            <a:ext cx="397080" cy="6555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501480" y="17496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по п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 Повестки 46-го заседания НТКМе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О ходе работ по пересмотру ГОСТ 8.587-2006 и РМГ 81-2006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по п.17 Повест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-го заседания НТКМе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О предложениях по разработке РМГ «Расчет межповерочного интервала для счетчиков холодной и горячей вод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7"/>
          <p:cNvSpPr/>
          <p:nvPr/>
        </p:nvSpPr>
        <p:spPr>
          <a:xfrm>
            <a:off x="0" y="1143000"/>
            <a:ext cx="8215200" cy="142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8286840" y="1143000"/>
            <a:ext cx="857160" cy="142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9"/>
          <p:cNvSpPr/>
          <p:nvPr/>
        </p:nvSpPr>
        <p:spPr>
          <a:xfrm>
            <a:off x="0" y="142920"/>
            <a:ext cx="9144000" cy="8571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по п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 Повестки 46-го заседания НТКМе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О ходе работ по пересмотру ГОСТ 8.587-2006 и РМГ 81-200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6"/>
          <p:cNvSpPr/>
          <p:nvPr/>
        </p:nvSpPr>
        <p:spPr>
          <a:xfrm>
            <a:off x="8532720" y="6356520"/>
            <a:ext cx="36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176040" y="1306440"/>
            <a:ext cx="87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целях выполнения данного пункта  ФГУП «ВНИИР» совместно с ООО «НИИ Транснефть» осуществляют разработку комплекса стандартов в области измерений количества и показателей качества нефти при ее транспортировке по системе магистральных нефтепровод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176040" y="2529000"/>
            <a:ext cx="875520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Т «ГСИ. Масса нефти и нефтепродуктов. Методики (методы) измерений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Стандарт прошел голосование в ТК 024 и ТК 23. При голосовании в техническом комитете по стандартизации ТК 23 «Нефтяная и газовая промышленность» были получены замечания. На данном этапе ООО «НИИ Транснефть» рассматривает замечания, готовит сводку отзывов и направляет в адрес ТК 23 доработанный проект стандар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ГОСТ «Системы измерений количества и показателей качества нефти и нефтепродуктов. Общие технические условия»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Стандарт прошел обсуждение в МГС. При обсуждении в межгосударственном техническом комитете по стандартизации МТК 523 «Техника и технологии добычи и переработки нефти и газа» были получены замечания. На данном этапе ООО «НИИ Транснефть» рассматривает замечания, готовит сводку отзывов и направляет доработанный проект стандарта в адрес МТК 523. Планируемая дата принятия – 2017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6897-DBEB-4A93-B79F-363ED0C006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0" y="142920"/>
            <a:ext cx="9144000" cy="8571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по п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 Повестки 46-го заседания НТКМе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О ходе работ по пересмотру ГОСТ 8.587-2006 и РМГ 81-200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0" y="1143000"/>
            <a:ext cx="8215200" cy="142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8286840" y="1143000"/>
            <a:ext cx="857160" cy="142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228600" y="2016000"/>
            <a:ext cx="86868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ГОСТ «Государственная система обеспечения единства измерений. Средства измерений объемного расхода нефти и нефтепродуктов. Испытания. Поверка и калибровка с применением трубопоршневых поверочных установок»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Разработка первой редакции проекта ГОСТ на базе ГОСТ Р 8.908-2015 «ГСИ. Средства измерений объемного расхода нефти и нефтепродуктов. Испытания, поверка и калибровка с применением трубопоршневых установок», данный стандарт утвержден и введен в действие Приказом Федерального агентства по техническому регулированию и метрологии от 10 декабря 2015 г. № 2144-ст, дата введения в действие 1 мая 2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г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7"/>
          <p:cNvSpPr/>
          <p:nvPr/>
        </p:nvSpPr>
        <p:spPr>
          <a:xfrm>
            <a:off x="0" y="1143000"/>
            <a:ext cx="8215200" cy="142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8"/>
          <p:cNvSpPr/>
          <p:nvPr/>
        </p:nvSpPr>
        <p:spPr>
          <a:xfrm>
            <a:off x="8286840" y="1143000"/>
            <a:ext cx="857160" cy="142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9"/>
          <p:cNvSpPr/>
          <p:nvPr/>
        </p:nvSpPr>
        <p:spPr>
          <a:xfrm>
            <a:off x="0" y="142920"/>
            <a:ext cx="9144000" cy="8571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по п.17 Повест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-го заседания НТКМе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О предложениях по разработке РМГ «Расчет межповерочного интервала для счетчиков холодной и горячей вод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35FF-BC37-4562-AB04-3DFBE4E315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"/>
          <p:cNvSpPr/>
          <p:nvPr/>
        </p:nvSpPr>
        <p:spPr>
          <a:xfrm>
            <a:off x="233280" y="2136600"/>
            <a:ext cx="8677440" cy="33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7 декабря 2016 года национальный стандарт ГОСТ Р 8.931-2016 «Государственная система обеспечения единства измерений. Счетчики холодной и горячей воды. Определение интервала между поверками» утвержден приказом Министерства промышленности и торговли Российской Федер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ого агентства по техническому регулированию и метрологии от 7 декабря 2016 года N 1981-ст «Об утверждении национального стандарта Российской Федераци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циональный стандарт Российской Федерации ГОСТ Р 8.931-2016 «Государственная система обеспечения единства измерений. Счетчики холодной и горячей воды. Определение интервала между поверками» вводится в действие с 1 июля 201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7"/>
          <p:cNvSpPr/>
          <p:nvPr/>
        </p:nvSpPr>
        <p:spPr>
          <a:xfrm>
            <a:off x="0" y="1143000"/>
            <a:ext cx="8215200" cy="142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8"/>
          <p:cNvSpPr/>
          <p:nvPr/>
        </p:nvSpPr>
        <p:spPr>
          <a:xfrm>
            <a:off x="8286840" y="1143000"/>
            <a:ext cx="857160" cy="142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0" y="142920"/>
            <a:ext cx="9144000" cy="8571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6"/>
          <p:cNvSpPr/>
          <p:nvPr/>
        </p:nvSpPr>
        <p:spPr>
          <a:xfrm>
            <a:off x="8532720" y="6356520"/>
            <a:ext cx="36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1" descr=""/>
          <p:cNvPicPr/>
          <p:nvPr/>
        </p:nvPicPr>
        <p:blipFill>
          <a:blip r:embed="rId1"/>
          <a:stretch/>
        </p:blipFill>
        <p:spPr>
          <a:xfrm>
            <a:off x="306360" y="142920"/>
            <a:ext cx="890640" cy="14637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"/>
          <p:cNvSpPr/>
          <p:nvPr/>
        </p:nvSpPr>
        <p:spPr>
          <a:xfrm>
            <a:off x="750960" y="4878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20088,  Российская Федерац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публика Татарстан, г. Казан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. 2-я Азинская, д. 7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.: 8 (843) 272-70-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йт: www.vniir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2" descr=""/>
          <p:cNvPicPr/>
          <p:nvPr/>
        </p:nvPicPr>
        <p:blipFill>
          <a:blip r:embed="rId2"/>
          <a:stretch/>
        </p:blipFill>
        <p:spPr>
          <a:xfrm>
            <a:off x="1795320" y="2637000"/>
            <a:ext cx="641988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11:31:05Z</dcterms:created>
  <dc:creator>bibliotekar</dc:creator>
  <dc:description/>
  <dc:language>en-US</dc:language>
  <cp:lastModifiedBy>MASHEENA</cp:lastModifiedBy>
  <dcterms:modified xsi:type="dcterms:W3CDTF">2017-10-25T05:27:54Z</dcterms:modified>
  <cp:revision>589</cp:revision>
  <dc:subject/>
  <dc:title>Слайд 1</dc:title>
</cp:coreProperties>
</file>